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A7A-41BE-4979-AB9B-C66114A7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094-EE7B-44AC-B16A-22A2A9E5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C48E5-DAAC-4A45-8CD4-19F507B3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9753D-17A9-40E7-BCED-263BEF36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DFA1B-E9D0-4E1B-8E88-30B27060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E9128-CB50-415E-9EFF-89374AF3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A1017-564E-4312-87AA-ADB59B24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47AD2-2EB8-43CB-BE37-5521E31D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12D52-E009-499F-8DFB-D531D1F6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D93EB-CAE5-49E9-9AB4-53187E63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0F9F4-8FAC-44DD-BFAB-929CAD0D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5D37E-C1DA-4FE9-87C2-75FAFEF9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25B-9982-4737-A74B-F175126D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DF33F-6044-4964-BDDB-0FAE5C44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BEA62-6D15-4CAC-955C-0705283D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E5CEE-C163-4DF2-8684-834E56C6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E95B1-A690-4D5E-8CFE-44B788C9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334C9-0D0F-4B77-9942-1AD3545A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4B632-8A23-41A5-BE1E-12AE8799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3D4A4-2F10-42C9-A897-CFB8CA58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9DBD6-9260-47C7-B796-749B0066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A8B4F-532A-4E70-96A0-B799C1F9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1A22F-6B0C-4E0A-9950-6D71D42B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350-AA53-42C5-8DC9-106FF8B4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0BB8E-51CD-417F-83F5-91800DB0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353C1-9990-47DE-9EFB-459FE264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4CF42-8D71-40D3-AC1C-3753684D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C2367-9A45-4D19-86A4-CB0DD989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C91D0-7E8C-4A09-BB8E-76AD8898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EA5E9-F540-4784-A986-9F65DE1B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87679-1F24-4897-8EC2-D5344119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E775D-EB88-4F11-87BF-087719F2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A2548-81AC-46CF-8969-332345D6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1D39F-C519-4C0F-9387-1BC74937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1410-0D2E-4DD7-91ED-8BFB1CCD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DE1DC-0AE0-4257-B3F0-E4F96FA2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2B659-A127-420B-863E-DC2C0A79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CCDBB-AE21-489B-B249-6E883723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C90F8-6826-47E5-B97A-CBF694D8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94C5B-98B1-4EDC-855A-67134D53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012C6-0A2E-451A-95AD-FEB3CC50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8C9C8-2B07-4D0D-8696-EC606CE2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DAA8E-60B2-4779-BE5D-ECBE7080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95AE1-AAEA-4D4D-95D6-DA76B5AA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8783D-F232-46BC-AC75-8A02F31C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007D-6E6C-421A-A309-732358A9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4962B-5D31-4ABE-BF13-AF05D32F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D6025-5707-4807-9B94-4325036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BAED0-748A-4A55-8015-173ADAA2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0F685-36A0-4B3C-99AF-607AC506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CD80B-5AE2-4D9F-AD48-41A7BC63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62D4-7FE2-4ED5-BDCB-F275629C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8244-8CD8-49D0-B370-0B569E51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5E78-4315-431F-967E-4265233B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31D4-B3BC-4014-AF2D-5AABCF70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16D3-5826-4739-AE44-2449EAE3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D0B-F706-48E5-8232-940B4F2A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AD41-B011-4737-9F02-9D09C5F3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5241-1537-4089-8631-8A4A8DBD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BDDD-F074-45FD-BECA-85271CA9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0F31-E08A-47C8-B0B7-775F6275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6382-C433-4B06-A24F-6C525FCE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2C44F-0445-4C7C-902F-3E9807B9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A4E59-7C4F-4703-8EB5-ECF467C4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55017-1469-489E-A386-DA1E9E4E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49F60-C254-4AC9-B191-64FDE60E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1363-B565-4FE4-8D97-85D9238B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D6D-384A-47A8-B715-6DD8874B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338E-3C1F-448B-92A0-3053514E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3183-4C82-4065-BA38-773C305E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C0EE9-8796-49F1-8F40-0142E833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70BB9-9D1A-437F-B2EE-77B10CBA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DE99E-D272-4241-ADA2-6E837ED4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B806E-F82F-4115-B20A-C0504076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E0FB0-9461-49F1-B902-A5C41B87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B2C19-CD1A-4E85-AA15-59C6D987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A344E-74F3-470F-9DBA-3D1A9214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8A654-1925-475B-9EAC-6B845C99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77F-14A7-4D6B-B2D1-C04F69E9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E3F08-0734-45C9-851B-949064D0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F9610-84B4-41EC-8D9A-52BFEBA8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C8989-1A56-407B-83F6-1ABD1425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79BA1-FE85-48CF-930F-F9BB0D86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BE76E-03C6-4EA7-ACE8-35178F4E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EFB71-6D6D-4D68-8AC0-A2E88E9C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6D3E1-4183-4CEC-B5FA-7C2C6271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8A920-EE17-4DE1-8127-AB049E60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753ED-8914-4A4B-AEE1-5FE1F1A1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FC2F2-3ABC-45BE-8C28-BC8ABD81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CCB-950C-42FD-848E-26BA0E0C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2C324-18AC-48D9-A60F-98D6BFCB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4A250-DD51-4930-BDEB-916AA484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A153D-DC8C-4D50-A497-1522B52B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18EBD-87DA-4DAA-BCC5-976CFB69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622F3-3014-41FC-83BF-3BDF65F1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75E7C-D4BB-4AAF-8E3F-B7EB55FA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4A559-B18A-4EE1-84A0-C21865EC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51AAE-4E21-4FCC-AB4B-340F9833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A2C1F-2932-4144-882A-C775AC58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BE44A-7BD2-4149-8ABC-4C73385B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39D-3A63-4C0A-A6F5-4238E7B2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48CF1-971D-47A8-9198-B832444C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EACCB-DA24-47EF-ABB4-A622E050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3516D-8513-4A05-96D3-6CA48096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F1E47-85F4-4A7C-ADD4-22670637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35B78-7FB5-46F3-8A7D-A20948D9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DD839-23EE-4558-ACD8-B424B455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4E0A5-8332-4991-89E1-1312193D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C17D8-372D-4073-91C3-A1F3DA2F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EC775-D178-4B0B-8688-5448CFEB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C77B6-E96C-42EC-8F49-D3CF3DEC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6BF-C2DA-4FC9-AFE6-89448D0C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84879-C9FB-4841-9B45-9B358AF8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026C3-B770-4157-8737-B08247A9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6B952-81F9-492C-96C5-1AF83A51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0DC55-EA8A-440B-ACED-13D3E22A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350D5-9903-4514-A687-1C9DE271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710EA-C9C7-4AAF-B022-D2575064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4C1AB-7123-4ED5-969B-C217A44B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D0F15-DAF0-4EDE-8228-65457F3C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ED817-0B63-4FF0-B489-9EA7E326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7EB7A-DCA3-4411-93B6-7E986239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430-CA68-4C6B-A4C4-441D91CB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14980-71FD-4156-B9D4-28280CAA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F8EF9-A4EB-420D-8248-ABD8BEF8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98B58-67DA-40E3-B2F0-61CC435B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820D3-491C-4699-BF6D-179BB7C1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E201B-F1D0-441C-898C-5E097FB1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FFB5B-24F3-4066-BA1A-A66BBFB3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8EEF4-CD07-4397-BCF7-3E720B16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6A74D-128D-484F-8EC7-B5252EB6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3FF93-4CB3-4F13-9DFD-F314D5A5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FBFE2-D934-419A-B29B-F86B03C0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BE5-D70D-4D67-ABE4-E5E9C143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3ADEB-4011-49F4-B744-1CCA4C17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3EE45-4105-4592-81B0-2B5315D0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9D589-EFAF-412A-873F-3DC04143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F22FD-22E5-4B28-A60B-7192DC84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DC8D4-01D3-4FB3-B629-D1B7E7C2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07C63-6CFC-4C32-A582-CA79969F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243A6-D085-4155-8798-DECEFC0F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CDFCA-F204-4C7F-A971-9CD6C050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974BE-1BBD-4B8E-840A-6D004797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E3C3D-4A09-4175-9677-A509E24B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807E-4E48-4317-9267-7F29B5348A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2A25-8651-4B94-B428-8BE17A33774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F365-9E7D-4289-A023-A11AB65A57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987B-B72B-4DED-A837-7D1A00FE00E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DF1E-1CF8-4FF4-969F-850C879A36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5FDA-B5A0-4E63-BD81-AE8BAF9E18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3453-5C94-4B81-B97E-FC783D97D8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1B2C-2827-4568-9A9A-C73D68A59E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BAF9-DA0D-4032-BF4B-72867F22453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CF14-5CFA-4AD7-B8E8-DF42CCC7AA5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76EE-3F5F-41CF-993E-3EE01F1B7E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913D-1545-4B8C-A721-E015E6263D2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74 Pane náš, ty bdieš nad nam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náš, ty bdieš nad na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žehnávaš hojne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chraňuj aj naše de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buď s nimi v každý č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stou žitia veď ich stál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 náš vrúcny prosb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e, že si s láskou deť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u náruč otvár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osbu máme, aby si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ru a múdrosť d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še deti vychová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česť tvoju, slávy Krá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47:30Z</dcterms:modified>
  <cp:revision>76</cp:revision>
  <dc:subject/>
  <dc:title>Je veľký náš Pán, on slávy je Kráľ Nech do všetkých strán  spev vrúcnych znie chvál.</dc:title>
</cp:coreProperties>
</file>